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1D09-699D-418A-9E8C-9C2CC26668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6FA2-E597-42B5-AB6A-92DA8C7B957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EF01-1A5C-4583-A1BE-D501A6350E0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91D7-BB25-4063-BDC1-1596007C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2BC8-064E-4185-8A1B-4D851D2F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0502-0581-4502-9553-AF6F200D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EBE8-9411-4808-9C39-B412E906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0B62-8818-4711-ACD4-B7DCC888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DCA6-8ED3-4525-BFC0-7C4B5CD8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06B3-ED44-4FFB-9BD8-46D4E4A6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9DD1-9D4D-4FAF-989A-6C3663C8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78A1-8FBA-4A60-AC09-815FA80E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CF39-F950-4C1D-9E04-73B0ABEF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507A-D402-449B-B975-F0BDB3DE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EFB7-7CAE-4A41-991B-A6759022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228C-C6F9-4ADD-8065-B6509386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F4F7-6470-4CA7-8E91-9519484E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6DD9-2A3E-42C6-9E72-3BBCA47A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2EC4-2167-4FD9-9977-5E3DE28F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B0D1-ED4E-4B4D-9EFA-5708D6BD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EF52-D949-41D9-A8C8-E77D4BF7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63CE-9810-4C36-B77C-CC007F0F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425-D1EB-4DC4-89FC-7BEA1CEA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8C02-A2E0-428C-BCF8-19F3432D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D1A3-1E37-467A-8B33-CF2267AF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F76D-3472-4281-B4C2-F83B2A5D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9BFE-4221-495F-8BB4-9FD4D12D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7B02-80D8-4AD6-B0D9-EF0847EA13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9A13-BAC6-4A6E-8E74-E80FF6B5DF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Разработка рабочих программ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учебных предметов и курсов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соответствии с требованиями ФГОС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Нормативные документы, лежащие в основе рабочих программ</a:t>
            </a: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ГОС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ОП образовательного учреждения, в том числе учебный план основного общего образования, программа развития универсальных учебных действ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едеральный перечень учебн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следующие материа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Документы, лежащие в основе</a:t>
            </a:r>
            <a:br>
              <a:rPr sz="40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 рабочи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кольку рабочие программы учебных предметов курсов являются компонентом основной общеобразовательной программы ступени, их разработка и утверждение относится к компетенции образовательного учреждения (п. 5 ст. 12 Федерального закона № 273 от 29.12.2012 «Об образовании в Российской Федерации»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овательно, регламентировать структуру и содержание рабочей программы в образовательном учреждении может локальный акт, например, «Положение о рабочей программе учебного предмета, курса». Данный локальный акт определяет правила, нормы, объективно отражающие требования к рабочим программ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предмет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тульный лис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ая запис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ий поурочный план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е образовательные результаты на конец обучения в данном класс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собы оценивания образовательных результатов обучаю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итульный лист отражает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е наименование образовательного учреждения в соответствии с Устав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у утверждения рабочей программы в соответствии с Положением о рабочей программ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асс, для которого разработан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реализации рабочей программ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.И.О. учителя, составившего рабочую програм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год составления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928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Пояснительная записка рабочей    программы должна отражать сведени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перечне нормативных документов и материалов, на основе которых составлен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бщем количестве часов на учебный год, в неделю, на которые рассчитано преподавание предмета в данном класс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целях и задачах преподавания предмета в данном классе. Определяются на основе примерной или  авторской программы для данного класса с учетом специфики образовательного учрежд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ведущих формах, методах и средствах обучения, технологиях и т.д., которые будут использоваться учителем для реализации рабочей программы. При переходе на новый стандарт актуальными с точки зрения достижения новых образовательных результатов становятся способы обучения, реализующие системно-деятельностный подход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тличительных особенностях рабочей программы по сравнению с авторской и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чинах внесения измен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Причины для внесения изменений в авторскую программу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чин для внесения изменений в авторскую программу могут выступа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практической части авторской программы лабораторным оборудованием, другими средствам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авторской программой в полной мере содержания образования по предмету в соответствии с требованиями ФГО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ематический поурочны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с учетом учебного плана образовательного учреждения для данной ступени образования. Он раскрывает последовательность изучения содержания программы, распределение количества учебных часов по разделам и темам, конкретизирует все дидактические единицы содержания в рамках каждого урока, определяет проведение контрольных, лабораторных, практических и других видов работ, планируемые результаты изучения раздел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на учебный год и оформляется в виде таблицы и является обязательной частью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ланируемые образовательные результаты обучающихся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т обязательный структурный компонент рабочей программы отражает перечень требований к личностным, метапредметным, предметным результатам, на достижение которых она направле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бразовательным результатам обучающихся, прописанные в рабочей программе не должны быть ниже, сформулированных в стандар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писанию планируемых образовательных результатов: они должны быть реально опознаваемы с помощью диагностических инстр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209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Способы оценивания планируемых образовательных результатов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й структурный компонент рабочей программы требует фиксирования сведений о количестве контрольных мероприятий, форме промежуточной аттест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х, методах, средствах контроля и оценки планируемых образовательных результатов обучающихся при реализации данной рабочей программы, которые планирует реализовать учит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4000" y="475920"/>
            <a:ext cx="754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ложения к рабочей программе педагогом могут представляться также и средства контроля и оценки образовательных результа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шение о необходимости предоставления учителем средств контроля может быть принято педагогическим советом образовательного учреждения и зафиксировано в «Положении о рабочей программ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Рабочая программа учебного предмета или кур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казывает как с учетом конкретных условий, образовательных потребностей, возрастных и других особенностей обучающихся конкретного класса учитель планирует осуществлять образовательный процесс по предмету на основе ФГОС. По сути, рабочая программа – это индивидуальная педагогическая модель реализации образовательного процесса обучения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Учебно-методическое обеспечение образовательного процес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основную и дополнительную учебную литературу для обучающих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ики, учебные пособия, рабочие тетради, сборники задач и упражнений, тестов, контрольных и практических работ, практикумов, хрестомат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равочные пособия (словари, справочники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глядный материал (атласы, альбомы, карты, таблицы) и другие информационные источники, которые учитель планирует использовать для реализации рабочей програм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Материально-техническое обеспечение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ажает перечень учебного оборудования и оборудования для лабораторных, практических работ, организации проектной и исследовательской деятельности обучающихся и т.д., которые учитель планирует использовать при реализации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Лист внесения изменений в рабочую программу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560" y="148392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атривает фиксацию возможных изменений в рабочей программе, необходимость в которых может возникнуть в течение учебного го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итель имеет право вносить изменения в рабочую программу только на основании приказа руководителя образовательного учреждения или при условии согласования изменений с заместителем руководителя бразовательного учреждения по учебно-воспитательной раб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и содержание рабочей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ограммы учебного курса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учебного курса может составляться как на основе авторской (если таковая имеется), так и самим педагог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первом случае структурные компоненты рабочей программы учебного курса совпадают со структурными компонентами рабочей программы учебного предме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случае, когда программа разрабатывается самим педагогом и, по сути, является авторской, структурные компоненты, должны быть дополнены еще учебно-тематическим планом и содержанием учебного кур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ой запис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тематическ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ания учебного кур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ого поурочн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х образовательных результат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а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-тематически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бно-тематический план представляет собой разделение всего содержания учебного курса на дидактические единицы разделы, их нумерацию с указанием продолжительности их изучения. Он предваряет такой компонент рабочей программы как «Содержани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держание учебного курса представляет собой краткое содержание каждого раздела согласно нумерации в учебно-тематическом пла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ыбрать авторскую программу и соответствующий к ней учебно-методический комплект (УМК) из Федерального перечня, рекомендованного Минобрнауки РФ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Сравнить цели изучения учебного предмета в выбранн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рской программе для данного класса с целями, зафиксированными в примерной программе. При необходимости выполнить корректировку целей авторской программы, отразить этот факт в тексте пояснительной записки РП, обосновав причину корректиров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Сравнить требования к планируемым образовательным результатам обучающихся на конец обучения в данном классе в выбранной авторской программе с такими же требованиями, прописанными в примерной программе по учебному предме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155700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Сравнить содержание образования по предмету, представленное в авторской программе для всех классов данной ступени и примерной програм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Составить тематический поурочный пла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Определить состав УМ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Оформить текст рабочей программы в соответствии с требовани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. Выполнить самоэкспертизу качества составленной рабочей программы с учетом требований «Положения о рабочей программе», критериями качества, разработанными в О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. Провести внешнюю экспертизу рабочей программы. Результаты рассмотрения представить в виде выписки из протокола заседания методического объедин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. Представить рабочую программу к утверждению в соответствии с принятой в образовательном учреждении процедур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1187280" y="357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Основные требования к рабочей программе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483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чие программы должны быть направлены на достижение образовательных результатов. В связи с этим рабочие программы должны разрабатываться учителем на основе требований к планируемым образовательным результат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разработке рабочей программы учителю рекомендуется использовать и примерную и авторскую программы по учебному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имерны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ые программы учебных предметов для основной школы составлены на основе фундаментального ядра содержания общего образования и требований к результатам основного общего образования, представленных в ФГО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 определяет инвариантную (обязательную) часть учебного предмета, за пределами которой остается возможность авторского выбора вариативной составляющей содержания образования. Примерная программа не является нормативным докумен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Авторски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в совокупности с учебно-методическими материалами (учебниками, рабочими тетрадями, тетрадями для практических работ, сборниками заданий, контрольных работ, книгами для учителя, CD и т.д.составляет авторский УМ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наличии УМК учителю рациональнее обеспечивать достижение образовательных результатов средствами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еимущества использования авторск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ие программы конкретизируют содержание предметных тем, включенных в стандарт, определяют в рамках авторской концепции изучения предмета в каждом классе распределение учебных часов по разделам, темам, набор практических, лабораторных работ, выполняемых учащимися, опытов, демонстрируемых учителем в классе и т.д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ая программа не является нормативным документ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лизация авторских программ в каждом классе, как правило, подкреплена учебно-методическими материал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964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мерная программа – средство, помогающее учителю проанализировать авторскую программу с точки зрения обеспечения требований стандарта, т.е. получить ответы на следующие вопрос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ли авторская программа для данного класса в полной мере содержание, включенное в примерную программ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авторской программы является избыточным по сравнению с содержанием примерной программы? Это будет список тем, не входящих в стандар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из примерной программы отсутствует в авторской? Это будет список тем из стандарта, изучение которых следует обеспечить, не смотря на то, что их нет в авторской програм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рабочей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на эти вопросы определят содержание будущей рабочей программы, а именно: будет ли она отличаться от авторской (если – да, то в какой части и почему?) или не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– нормативный документ, который иллюстрирует, как учитель планирует реализовывать авторскую программу с учетом особенностей ОУ (условий, образовательных потребностей обучающихся) и требований действующего стандар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целом структура и содержание рабочей программы определяетс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ованиями ФГОС к образовательным результатам по предмет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лендарным учебным графиком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емом учебных часов на изучение предмета, курса согласно учебному плану для конкретного клас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ями и задачами, планируемыми образовательными результатами основной образовательной программы ступени общего образования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знавательными интересами обучающихся конкретного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бором образовательным учреждением УМК для обеспечения реализации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7:00Z</dcterms:modified>
  <cp:revision>46</cp:revision>
  <dc:subject/>
  <dc:title>«Деление ядер урана»</dc:title>
</cp:coreProperties>
</file>